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59F-BBD7-4CF6-B978-26BA3A9E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1D23-52EE-4468-B6B7-BAF241F3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BFF2-7D3D-4FE0-8CF2-FD628038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7FF1-C759-479B-B159-E17347408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D92E-89F0-4DC0-AAEE-10599C90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E965-46AE-4FDD-9898-53ED0A18A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21B-CD12-460B-BB80-0DF8C003A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B7E6-A798-4ECB-BBF0-B59A95668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A2BE-68D4-4440-83DD-3E87EFBC5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7B29-3A88-4A94-99F0-5C6C739F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F86-CBDE-4105-9D01-60F1C53E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629E-A63D-45FC-BBA2-BC26D2E6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6833-9270-47D6-999C-3F66B6334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904-3F80-418B-9C81-F49427B8E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B80A-D6ED-4940-8924-7A272892E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415C-2D22-4C9E-B0C3-8E4059AA1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9A9-BB6A-4DE8-A2C7-F75E4BAEB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32D6-3546-4237-898A-DF9C8D4D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4D3D-26D5-4321-AB9A-F9044B12E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1521-0533-4076-B788-C7EFBC394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8EC1-C2CB-46F4-B0A1-A81A763C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7C0-D067-4D5B-87C5-D72B762E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E2D-88C5-4466-9215-1AD376A9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CB7-2C67-44D3-A2F9-F68BFA4A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5FB-A1E8-4CBB-BDD7-39604914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7B7-35EE-483F-BE47-44BB67AC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A2D-BAE1-448F-B4E2-719A721A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9C1-1FF9-4970-8C5B-B642B715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A91-8823-416F-9CF4-EA63134F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991-2873-45F7-BFE2-643AC1B0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873-6551-4B59-8897-4A3BC9F9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101-127A-414E-A443-293BEDA0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11A-9F8E-485C-9A83-04FB960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027-46A5-4AA8-A8DC-3D7D15B3B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Q8A5gRe_Dw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Medieval Period Monar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(1066-148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Henry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6-12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King Jo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years old but didn’t rule until he came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kle ty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king henry III"/>
          <p:cNvPicPr/>
          <p:nvPr/>
        </p:nvPicPr>
        <p:blipFill>
          <a:blip r:embed="rId1"/>
          <a:stretch/>
        </p:blipFill>
        <p:spPr>
          <a:xfrm>
            <a:off x="5943600" y="175248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Edward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72-1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Henr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Wales a part of the English realm in 1283 (Prince of W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Parliament – accepted the idea that laws could not be made nor taxes levied without the consent of Parli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king edward I"/>
          <p:cNvPicPr/>
          <p:nvPr/>
        </p:nvPicPr>
        <p:blipFill>
          <a:blip r:embed="rId1"/>
          <a:stretch/>
        </p:blipFill>
        <p:spPr>
          <a:xfrm>
            <a:off x="5867280" y="1752480"/>
            <a:ext cx="2876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Edward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07-1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Edward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etent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(by Parliament) to give up the throne in 1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king edward II"/>
          <p:cNvPicPr/>
          <p:nvPr/>
        </p:nvPicPr>
        <p:blipFill>
          <a:blip r:embed="rId1"/>
          <a:stretch/>
        </p:blipFill>
        <p:spPr>
          <a:xfrm>
            <a:off x="5715000" y="1676520"/>
            <a:ext cx="2895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Edward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27-13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Edward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Hundred Years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ed the French throne b/c his mother was the sister of 3 French k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gue reduced the nation’s population by 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ng edward III"/>
          <p:cNvPicPr/>
          <p:nvPr/>
        </p:nvPicPr>
        <p:blipFill>
          <a:blip r:embed="rId1"/>
          <a:stretch/>
        </p:blipFill>
        <p:spPr>
          <a:xfrm>
            <a:off x="6014880" y="1828800"/>
            <a:ext cx="2671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Richard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77-13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king at ag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ed by uncle, John of G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le land from Henry Bolingbroke, son of John of G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THROWN; died in prison; probably mu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ing richard II"/>
          <p:cNvPicPr/>
          <p:nvPr/>
        </p:nvPicPr>
        <p:blipFill>
          <a:blip r:embed="rId1"/>
          <a:stretch/>
        </p:blipFill>
        <p:spPr>
          <a:xfrm>
            <a:off x="6019920" y="15238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Henry IV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(first LANCAST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99-14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Bolingbroke – overthrew Ric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by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arliamenta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king henry IV"/>
          <p:cNvPicPr/>
          <p:nvPr/>
        </p:nvPicPr>
        <p:blipFill>
          <a:blip r:embed="rId1"/>
          <a:stretch/>
        </p:blipFill>
        <p:spPr>
          <a:xfrm>
            <a:off x="5715000" y="1752480"/>
            <a:ext cx="2590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Henry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13-14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Henry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daughter of Charles VI, King of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King Charles to declare him heir to the French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king henry V"/>
          <p:cNvPicPr/>
          <p:nvPr/>
        </p:nvPicPr>
        <p:blipFill>
          <a:blip r:embed="rId1"/>
          <a:stretch/>
        </p:blipFill>
        <p:spPr>
          <a:xfrm>
            <a:off x="5486400" y="1523880"/>
            <a:ext cx="2895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Henry 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22-14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Henry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king when less than a year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ruler; attacks of ins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thrown by Y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king henry VI"/>
          <p:cNvPicPr/>
          <p:nvPr/>
        </p:nvPicPr>
        <p:blipFill>
          <a:blip r:embed="rId1"/>
          <a:stretch/>
        </p:blipFill>
        <p:spPr>
          <a:xfrm>
            <a:off x="5867280" y="175248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Edward IV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(first YOR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61-1470 then 1471-14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of Richard, Duke of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War of the R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hrew Henry VI who fled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VI regained the throne in 1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IV regained power in 1471, killed Henry VI, and paved the way for absolute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king edward IV"/>
          <p:cNvPicPr/>
          <p:nvPr/>
        </p:nvPicPr>
        <p:blipFill>
          <a:blip r:embed="rId1"/>
          <a:stretch/>
        </p:blipFill>
        <p:spPr>
          <a:xfrm>
            <a:off x="5791320" y="1600200"/>
            <a:ext cx="2819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Edward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Edward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ed” by his uncle, Richard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ward V and his younger brother were locked in the Tower of London and murdered by Richard III’s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ing edward V"/>
          <p:cNvPicPr/>
          <p:nvPr/>
        </p:nvPicPr>
        <p:blipFill>
          <a:blip r:embed="rId1"/>
          <a:stretch/>
        </p:blipFill>
        <p:spPr>
          <a:xfrm>
            <a:off x="6553080" y="1828800"/>
            <a:ext cx="167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Willia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bQ8A5gRe_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66-10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the Conqueror (duke of Norma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ated Harold, the Saxon king, at the Battle of Hastings (A.D.10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ed the Doomsday Book – (the first census) inventoried nearly every piece of property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william the conqueror"/>
          <p:cNvPicPr/>
          <p:nvPr/>
        </p:nvPicPr>
        <p:blipFill>
          <a:blip r:embed="rId2"/>
          <a:stretch/>
        </p:blipFill>
        <p:spPr>
          <a:xfrm>
            <a:off x="5715000" y="1219320"/>
            <a:ext cx="3048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Richard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83-14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ward V’s 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king after having his young nephews murdered in the Tower of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king richard III"/>
          <p:cNvPicPr/>
          <p:nvPr/>
        </p:nvPicPr>
        <p:blipFill>
          <a:blip r:embed="rId1"/>
          <a:stretch/>
        </p:blipFill>
        <p:spPr>
          <a:xfrm>
            <a:off x="6095880" y="144792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Willia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7-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Wm.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t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-hungry and vio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ter quarrels with Roman Catholic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ed while hunting; denied Christian bu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william II"/>
          <p:cNvPicPr/>
          <p:nvPr/>
        </p:nvPicPr>
        <p:blipFill>
          <a:blip r:embed="rId1"/>
          <a:stretch/>
        </p:blipFill>
        <p:spPr>
          <a:xfrm>
            <a:off x="5486400" y="160020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Henry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-1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est son of W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axons and Normans by marrying Matilda who was half Sa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Henry’s daughter (Matilda) was next in line for the throne, but Henry’s barons failed to support her after Henry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enry I"/>
          <p:cNvPicPr/>
          <p:nvPr/>
        </p:nvPicPr>
        <p:blipFill>
          <a:blip r:embed="rId1"/>
          <a:stretch/>
        </p:blipFill>
        <p:spPr>
          <a:xfrm>
            <a:off x="5334120" y="1295280"/>
            <a:ext cx="3200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Step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35-1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’s nep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to recognize Henry, Matilda’s son, as his suc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king stephen"/>
          <p:cNvPicPr/>
          <p:nvPr/>
        </p:nvPicPr>
        <p:blipFill>
          <a:blip r:embed="rId1"/>
          <a:stretch/>
        </p:blipFill>
        <p:spPr>
          <a:xfrm>
            <a:off x="5638680" y="137160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Henry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(first PLANTAGEN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54-1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’s grandson – son of Matilda, Henry’s daughter, and Geoffrey Plantage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“From the devil we sprang, and to the devil we shall g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trial by 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Thomas a Becket mu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king henry II"/>
          <p:cNvPicPr/>
          <p:nvPr/>
        </p:nvPicPr>
        <p:blipFill>
          <a:blip r:embed="rId1"/>
          <a:stretch/>
        </p:blipFill>
        <p:spPr>
          <a:xfrm>
            <a:off x="5715000" y="1905120"/>
            <a:ext cx="266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rder of Thomas a Be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86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Henry II and Thomas were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lived in luxury and was appointed Chancellor of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162 King Henry appointed Thomas Archbishop of Canterbury in hopes of gaining mo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took his job seriously; refused to take the king’s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ommented, “Won’t someone rid me of this turbulent priest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knights murdered Thomas a Becket while he was praying at Canterbury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thomas a becket"/>
          <p:cNvPicPr/>
          <p:nvPr/>
        </p:nvPicPr>
        <p:blipFill>
          <a:blip r:embed="rId1"/>
          <a:stretch/>
        </p:blipFill>
        <p:spPr>
          <a:xfrm>
            <a:off x="6781680" y="1600200"/>
            <a:ext cx="2057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Richard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89-1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Henry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the Lionhe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t less than 6 months of his 10-year reign i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no real service for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ght in crusades; killed in b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richard I"/>
          <p:cNvPicPr/>
          <p:nvPr/>
        </p:nvPicPr>
        <p:blipFill>
          <a:blip r:embed="rId1"/>
          <a:stretch/>
        </p:blipFill>
        <p:spPr>
          <a:xfrm>
            <a:off x="6181560" y="1600200"/>
            <a:ext cx="2505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Jo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99-1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est son of Henry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England’s worst king (no other king ever named 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to sign the Magna Carta at Runnymede Me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king john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5880" y="2057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22:55:45Z</dcterms:created>
  <dc:creator>Bishop</dc:creator>
  <dc:description/>
  <dc:language>en-US</dc:language>
  <cp:lastModifiedBy> </cp:lastModifiedBy>
  <dcterms:modified xsi:type="dcterms:W3CDTF">2010-08-30T20:09:16Z</dcterms:modified>
  <cp:revision>9</cp:revision>
  <dc:subject/>
  <dc:title>Medieval Period  </dc:title>
</cp:coreProperties>
</file>